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0F2-E4B8-4AED-90A8-4F4F47D8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9C1-E941-45BB-ADF7-D7D0CD6C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62C-EE08-4873-9953-8589ACE5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740-6D02-4B2A-B070-3DA9D5BA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AF31B-06BC-4A7F-AE81-8DE7921A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6BF60-E05E-42EE-B3B2-88869516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5E64-769D-4146-B62B-1B73A0B8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4DAD3-D406-43A1-B9F1-2B651FB0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0AA7D-D08F-4A8A-A95B-972B5C34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335EE-4108-4645-BC02-ED7193B7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F0218-0B35-47F7-AEDA-2B833992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C5F-3804-4048-97C9-2BDC8D4F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76946-7179-482B-9C7C-11FD58B1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82EB7-BE0E-43D2-92CF-DE92A7D8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DE13E-1211-4AC7-907A-CFD331F2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EDD01-5AF5-40F3-85DF-CA2EA62D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377FE-0EB3-45A2-8D3F-A6E90324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3CC-1B0F-44CF-ADD5-97F29C23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437-1BF5-4A1B-9AE7-711F2395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183-0217-4B9F-BB37-8D9E472C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AC9-1590-4604-83F5-E3AD3FE9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91C-75C9-4FE2-99B4-DD24CF0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580-6A41-407F-888E-0B8F3C50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0C6-C2FB-46E3-A8CD-60802E91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805E-E43C-4E40-BB59-F6E41D8BB74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F661-8A54-494D-A8B4-CFE84BFB70A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duwenzhang.com/huati/xiangxin/index1.html" TargetMode="External"/><Relationship Id="rId3" Type="http://schemas.openxmlformats.org/officeDocument/2006/relationships/hyperlink" Target="http://www.duwenzhang.com/huati/yuanwang/index1.html" TargetMode="External"/><Relationship Id="rId4" Type="http://schemas.openxmlformats.org/officeDocument/2006/relationships/hyperlink" Target="http://www.duwenzhang.com/huati/chenggong/index1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duwenzhang.com/huati/fuqin/index1.html" TargetMode="External"/><Relationship Id="rId3" Type="http://schemas.openxmlformats.org/officeDocument/2006/relationships/hyperlink" Target="http://www.duwenzhang.com/huati/tongnian/index1.html" TargetMode="External"/><Relationship Id="rId4" Type="http://schemas.openxmlformats.org/officeDocument/2006/relationships/hyperlink" Target="http://www.duwenzhang.com/wenzhang/renshengzheli/" TargetMode="External"/><Relationship Id="rId5" Type="http://schemas.openxmlformats.org/officeDocument/2006/relationships/hyperlink" Target="http://www.duwenzhang.com/huati/fuqin/index1.html" TargetMode="External"/><Relationship Id="rId6" Type="http://schemas.openxmlformats.org/officeDocument/2006/relationships/hyperlink" Target="http://www.duwenzhang.com/huati/likai/index1.html" TargetMode="External"/><Relationship Id="rId7" Type="http://schemas.openxmlformats.org/officeDocument/2006/relationships/hyperlink" Target="http://www.duwenzhang.com/huati/zhenxi/index1.html" TargetMode="External"/><Relationship Id="rId8" Type="http://schemas.openxmlformats.org/officeDocument/2006/relationships/hyperlink" Target="http://www.duwenzhang.com/huati/shengming/index1.html" TargetMode="External"/><Relationship Id="rId9" Type="http://schemas.openxmlformats.org/officeDocument/2006/relationships/hyperlink" Target="http://www.duwenzhang.com/huati/cuozhe/index1.html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uwenzhang.com/huati/xiongdi/index1.html" TargetMode="External"/><Relationship Id="rId3" Type="http://schemas.openxmlformats.org/officeDocument/2006/relationships/hyperlink" Target="http://www.duwenzhang.com/huati/muqin/index1.html" TargetMode="External"/><Relationship Id="rId4" Type="http://schemas.openxmlformats.org/officeDocument/2006/relationships/hyperlink" Target="http://www.duwenzhang.com/huati/shibai/index1.html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duwenzhang.com/huati/gandong/index1.html" TargetMode="External"/><Relationship Id="rId3" Type="http://schemas.openxmlformats.org/officeDocument/2006/relationships/hyperlink" Target="http://www.duwenzhang.com/huati/jianqiang/index1.html" TargetMode="External"/><Relationship Id="rId4" Type="http://schemas.openxmlformats.org/officeDocument/2006/relationships/hyperlink" Target="http://www.duwenzhang.com/huati/xintai/index1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duwenzhang.com/huati/shiqu/index1.html" TargetMode="External"/><Relationship Id="rId3" Type="http://schemas.openxmlformats.org/officeDocument/2006/relationships/hyperlink" Target="http://www.duwenzhang.com/huati/keai/index1.html" TargetMode="External"/><Relationship Id="rId4" Type="http://schemas.openxmlformats.org/officeDocument/2006/relationships/hyperlink" Target="http://www.duwenzhang.com/huati/fangqi/index1.html" TargetMode="External"/><Relationship Id="rId5" Type="http://schemas.openxmlformats.org/officeDocument/2006/relationships/hyperlink" Target="http://www.duwenzhang.com/huati/jiazhi/index1.html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duwenzhang.com/huati/nvhai/index1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十 个 成 功 励 志 小 故 事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▲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司 机 考 试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某大公司准备以高薪雇用一名小车司机，经过层层筛选和考试之后，只剩下三名技术最优良的竞争者。主考者问他们：“悬崖边有块金子，你们开着车去拿，觉得能距离悬崖多近而又不至于掉落呢？”“二公尺。”第一位说。“半公尺。”第二位很有把握地说。“我会尽量远离悬崖，愈远愈好。”第三位说。结果这家公司录取了第三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秘诀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：不要和诱惑较劲，而应离得越远越好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▲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狮 子 和 羚 羊 的 家 教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每天，当太阳升起来的时候，非洲大草原上的动物们就开始奔跑了。狮子妈妈在教育自己的孩子：“孩子，你必须跑得再快一点，再快一点，你要是跑不过最慢的羚羊，你就会活活地饿死。”在另外一个场地上，羚羊妈妈也在教育自己的孩子：“孩子，你必须跑得再快一点，再快一点，如果你不能比跑得最快的狮子还要快，那你就肯定会被他们吃掉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秘诀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：记住你跑得快，别人跑得更快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91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▲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相信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自己是一只雄鹰▲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一个人在高山之巅的鹰巢里，抓到了一只幼鹰，他把幼鹰带回家，养在鸡笼里。这只幼鹰和鸡一起啄食、嬉闹和休息。它以为自己是一只鸡。这只鹰渐渐长大，羽翼丰满了，主人想把它训练成猎鹰，可是由于终日和鸡混在一起，它已经变得和鸡完全一样，根本没有飞的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愿望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了。主人试了各种办法，都毫无效果，最后把它带到山顶上，一把将它扔了出去。这只鹰像块石头似的，直掉下去，慌乱之中它拼命地扑打翅膀，就这样，它终于飞了起来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秘诀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：磨练召唤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成功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的力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▲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五  枚  金  币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有个叫阿巴格的人生活在内蒙古草原上。有一次，年少的阿巴格和他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爸爸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在草原上迷了路，阿巴格又累又怕，到最后快走不动了。爸爸就从兜里掏出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枚硬币，把一枚硬币埋在草地里，把其余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枚放在阿巴格的手上，说：“人生有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枚金币，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童年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、少年、青年、中年、老年各有一枚，你现在才用了一枚，就是埋在草地里的那一枚，你不能把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枚都扔在草原里，你要一点点地用，每一次都用出不同来，这样才不枉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人生一世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。今天我们一定要走出草原，你将来也一定要走出草原。世界很大，人活着，就要多走些地方，多看看，不要让你的金币没有用就扔掉。”在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父亲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的鼓励下，那天阿巴格走出了草原。长大后，阿巴格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离开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了家乡，成了一名优秀的船长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　　秘诀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：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珍惜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生命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，就能走出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挫折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的沼泽地。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▲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扫  阳  光▲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有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兄弟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二人，年龄不过四、五岁，由于卧室的窗户整天都是密闭着，他们认为屋内太阴暗，看见外面灿烂的阳光，觉得十分羡慕。兄弟俩就商量说：“我们可以一起把外面的阳光扫一点进来。”于是，兄弟两人拿着扫帚和畚箕，到阳台上去扫阳光。等到他们把畚箕搬到房间里的时候，里面的阳光就没有了。这样一而再再而三地扫了许多次，屋内还是一点阳光都没有。正在厨房忙碌的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妈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看见他们奇怪的举动，问道：“你们在做什么？”他们回答说：“房间太暗了，我们要扫点阳光进来。”妈妈笑道：“只要把窗户打开，阳光自然会进来，何必去扫呢？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秘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：把封闭的心门敞开，成功的阳光就能驱散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失败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的阴暗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068640"/>
            <a:ext cx="526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▲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一 只 蜘 蛛 和 三 个 人▲</a:t>
            </a:r>
            <a:r>
              <a:rPr b="1" lang="zh-CN" sz="3200" spc="-1" strike="noStrike">
                <a:solidFill>
                  <a:srgbClr val="7e007e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雨后，一只蜘蛛艰难地向墙上已经支离破碎的网爬去，由于墙壁潮湿，它爬到一定的高度，就会掉下来，它一次次地向上爬，一次次地又掉下来……第一个人看到了，他叹了一口气，自言自语：“我的一生不正如这只蜘蛛吗？忙忙碌碌而无所得。”于是，他日渐消沉。第二个人看到了，他说：这只蜘蛛真愚蠢，为什么不从旁边干燥的地方绕一下爬上去？我以后可不能像它那样愚蠢。于是，他变得聪明起来。第三个人看到了，他立刻被蜘蛛屡败屡战的精神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感动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了。于是，他变得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坚强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起来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　　秘诀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：有成功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心态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者处处都能发觉成功的力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                ▲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自 己 救 自 己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某人在屋檐下躲雨，看见观音正撑伞走过。这人说：“观音菩萨，普度一下众生吧，带我一段如何？”观音说：“我在雨里，你在檐下，而檐下无雨，你不需要我度。”这人立刻跳出檐下，站在雨中：“现在我也在雨中了，该度我了吧？”观音说：“你在雨中，我也在雨中，我不被淋，因为有伞；你被雨淋，因为无伞。所以不是我度自己，而是伞度我。你要想度，不必找我，请自找伞去！”说完便走了。第二天，这人遇到了难事，便去寺庙里求观音。走进庙里，才发现观音的像前也有一个人在拜，那个人长得和观音一模一样，丝毫不差。这人问：“你是观音吗？”那人答道：“我正是观音。”这人又问：“那你为何还拜自己？”观音笑道：“我也遇到了难事，但我知道，求人不如求己。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　　秘诀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：自己救自己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   ▲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让 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失 去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变 得 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可 爱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一个老人在高速行驶的火车上，不小心把刚买的新鞋从窗口掉了一只，周围的人倍感惋惜，不料老人立即把第二只鞋也从窗口扔了下去。这举动更让人大吃一惊。老人解释说：“这一只鞋无论多么昂贵，对我而言已经没有用了，如果有谁能捡到一双鞋子，说不定他还能穿呢！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秘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：成功者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善于放弃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善于从损失中看到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价值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▲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请 不 要 开 错 窗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一个小女孩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趴在窗台上，看窗外的人正埋葬她心爱的小狗，不禁泪流满面，悲恸不已。她的外祖父见状，连忙引她到另一个窗口，让她欣赏他的玫瑰花园。果然小女孩的心情顿时明朗。老人托起外孙女的下巴说：“孩子，你开错了窗户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　　秘诀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：打开失败旁边的窗户，也许你就看到了希望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zh-CN" sz="2800" spc="-1" strike="noStrike">
                <a:solidFill>
                  <a:srgbClr val="00c600"/>
                </a:solidFill>
                <a:latin typeface="Tahoma"/>
              </a:rPr>
              <a:t>▲</a:t>
            </a:r>
            <a:r>
              <a:rPr b="1" lang="zh-CN" sz="2800" spc="-1" strike="noStrike">
                <a:solidFill>
                  <a:srgbClr val="00c600"/>
                </a:solidFill>
                <a:latin typeface="Tahoma"/>
              </a:rPr>
              <a:t>人 生 的 秘 诀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前，一个年轻人离开故乡，开始创造自己的前途。他动身的第一站，是去拜访本族的族长，请求指点。老族长正在练字，他听说本族有位后辈开始踏上人生的旅途，就写了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个字：不要怕。然后抬起头来，望着年轻人说：“孩子，人生的秘诀只有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个字，今天先告诉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个，供你半生受用。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后，这个从前的年轻人已是人到中年，有了一些成就，也添了很多伤心事。归程漫漫，到了家乡，他又去拜访那位族长。他到了族长家里，才知道老人家几年前已经去世，家人取出一个密封的信封对他说：“这是族长生前留给你的，他说有一天你会再来。”还乡的游子这才想起来，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前他在这里听到人生的一半秘诀，拆开信封，里面赫然又是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个大字：不要悔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秘诀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：中年以前不要怕，中年以后不要悔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04:47:57Z</dcterms:created>
  <dc:creator>candy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0:57Z</dcterms:modified>
  <cp:revision>21</cp:revision>
  <dc:subject>主题班会课件(分28大类): http://shop62905894.taobao.com</dc:subject>
  <dc:title>主题班会课件(分28大类): http://shop62905894.taobao.com</dc:title>
</cp:coreProperties>
</file>